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6FD-DB52-4D97-9D21-1A7E25ED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EDB-4B2D-4145-ADE3-7C5489AA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F66-5140-4175-8D2C-16A22AEF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F50-0DAE-4CCA-9BAA-AC6C053D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0E2-0A5E-4354-B563-27A9632B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F9F-D0AD-4B29-A1F6-3E88BB5B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182-DB57-4C93-BFC6-8B4F950C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200-2C83-4A18-8A6B-E3DB2508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FBD-08B3-4791-9DC3-46220AAE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C2F-4408-4BF4-A17F-3C5094A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3EF-B054-4051-8E7C-1819AD06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F2B-C68D-40EC-B9D7-39F4BA6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3893-D38C-4AE3-9C2C-097BFA387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762120"/>
            <a:ext cx="73152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ON CHANTE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336760" cy="180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46640" y="0"/>
            <a:ext cx="2250720" cy="229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19920" y="762120"/>
            <a:ext cx="2738160" cy="133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880" y="2644920"/>
            <a:ext cx="2590920" cy="1568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649680" y="2438280"/>
            <a:ext cx="1844640" cy="2667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400800" y="274320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33520" y="4724280"/>
            <a:ext cx="1782720" cy="184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0" y="5105520"/>
            <a:ext cx="30481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l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22:11:11Z</dcterms:created>
  <dc:creator>SDW</dc:creator>
  <dc:description/>
  <dc:language>en-US</dc:language>
  <cp:lastModifiedBy>SDW</cp:lastModifiedBy>
  <dcterms:modified xsi:type="dcterms:W3CDTF">2007-10-23T18:26:1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04779645</vt:r8>
  </property>
  <property fmtid="{D5CDD505-2E9C-101B-9397-08002B2CF9AE}" pid="3" name="_AuthorEmail">
    <vt:lpwstr>dbowewie@waukesha.k12.wi.us</vt:lpwstr>
  </property>
  <property fmtid="{D5CDD505-2E9C-101B-9397-08002B2CF9AE}" pid="4" name="_AuthorEmailDisplayName">
    <vt:lpwstr>Bowe-Wielgus, Deborah</vt:lpwstr>
  </property>
  <property fmtid="{D5CDD505-2E9C-101B-9397-08002B2CF9AE}" pid="5" name="_EmailSubject">
    <vt:lpwstr>STuff</vt:lpwstr>
  </property>
  <property fmtid="{D5CDD505-2E9C-101B-9397-08002B2CF9AE}" pid="6" name="_ReviewingToolsShownOnce">
    <vt:lpwstr/>
  </property>
</Properties>
</file>